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3100-64BB-4D95-B26F-80B791F3E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616B-E0AB-4748-9ED1-22E129B47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 of shaken baby timing mirrors the crying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83CA-EECC-4C05-8924-698AD62C2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ong-term affects – conflicting data re. temperament and sleep, more difficult toddlers?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ollic does not influence long term cognitive develo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7E96-E6F6-4EB4-B33C-EFF3EEC5B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8C72-579F-4F4A-9628-976F31F49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bicarb not recc &lt;5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B0A4-F2F9-461D-89C2-8D22F1281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ning infant in day and night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hrough a comlete sleep cycle about every 50-6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6F11-E976-4DD4-9A57-C616AA8BF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9E6C-88E3-4AAA-AB5B-75F533E17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r babies may develop a habit of feeding to get back to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ime in lighter stages of sleep and sless deep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7884-6243-4398-99A2-65A52E557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parents feel it’s important to get baby settled by 12 weeks – structured care. Point is to prevent slleping problem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2E1E-4EBF-4123-9213-65B60EC00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6E1C-210C-4143-8E5A-92133A1DA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ants deaths in adult beds – ¼ by overlying adults, ¾ entra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F001-A6C8-440A-802F-4326BB37C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supported, &gt;15 studies since 19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CEAA-E9F6-4F97-9DA4-73B7A5129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9D60-293C-4153-BDCE-A078362B3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mentally difficult or irritable infants more likely to survive famine than more placid 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uration of cerebral cortex, newborn reflexes, e.g.. Palmar grasp, disappear, start smiling, have a recognition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obehavioral shift at 2 months changes in several systems e.g.. Attention, sensory, in social abilities, and in EE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FAF3-4D69-48DA-A374-D5D173E6C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A899-3484-416E-9E1F-E47DF5F94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osry overload by the end of the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C855-47A9-441E-8A2E-A71F0AEF9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6ADF-3E46-44D8-8108-98D08609B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-4 % of infants with sx of colic have GERD                 subacute sx of drug withdrawl can last 4-6 mon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E230-5D67-43F6-949E-2362C182A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some babies improved on hypoallergenic formula esp. if other signs of intolerance like emesis, diarrhea, eczm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tudies found a benefit from soy formula but not adequately double blinded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– no diff when breath hydrogen compared., or b/tw babies given decreased lactose or give lactase enzyme, plus no benefit with simethi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DAE8-D406-425D-9178-98311A27C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don, copenhagen, proximal care – london 50%  less contact, d/c BR earllier, london group fussed/cried 50% more at 10 days and at 5 wee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39CF-FC29-4F9E-A977-9B035C9B0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D41-144E-45E7-AA45-8464F342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CF6-2E71-4E0D-A0EE-77DC5A1A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3D6-20A0-47F5-B3DE-001AFA03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E8F-C8FB-445B-BF8B-94E6314F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650A-5473-4ED3-AA91-A3728EAC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9DEE-8978-408B-ABF9-291D694A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D43A-945A-44D6-B20E-76BD3BBA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3D71-5F3F-49FE-9FA4-DDADF64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86B4-7622-494E-93EC-8B1AE647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04AB-A396-4C1B-9F3F-28F13103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92A2-1DCB-412D-9870-115F5513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516-B803-4966-8354-7C00D015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24FA-90DF-48DE-BC8E-CB1B2ECA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EC04-AD1E-4393-8C76-5DAC6EF6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4E35-D3D5-406A-8B39-5CDA98D4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018A-B50D-4F39-A0C9-048F5CF3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E6AF-45E2-4391-B0F8-D0C7EF0A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8AD6-A35A-4D1E-958E-E2AE2D56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3D46-3763-407B-86A4-020C46F9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0F81-9DF7-4DDE-83FE-7FF8B4F3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298DF-BE8E-47EC-9A30-954E26EE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6D1F5-60A0-4CE7-B3EF-68E9B06A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727-C00B-44F3-805D-689C72EE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C2FE-995D-44C1-AD58-327E28A5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895B-1A70-470F-A22F-4216B6CD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0059-7108-451F-8817-55E00A8C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03A1-FC54-4111-B1F2-DF9C715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A8A0A-045D-4080-A7DB-39A4BD41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0A34-42B3-4128-B4DA-CDD2D684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E997-90E9-4F04-B1AD-6244A8CE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2544-098C-4AAC-AD3C-43170E81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4907-465D-432F-967E-E6917FC3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5A645-38FF-468F-8BC3-064DDA7E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DAE-F9B3-47A9-B1BB-D0860E71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727E-FE0F-429F-BCF9-CAB31601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E23CA-7E22-4219-A30C-6B2B43C5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CF3C-8166-4D10-A6BA-51BAC2FD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C8C1F-4261-490C-8262-43894E4A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102D-066C-4C34-86EB-03B36556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B082-895F-4D01-BD6D-938940F9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9AC9-E18C-4AD1-AA20-0BFC91BE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F3133-9448-444A-8B2B-26C709B0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E151-4366-4B33-9F58-139CC884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95679-4965-4B7A-8DF6-35D024EF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E7C-B54B-48FF-B6A7-197642AB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75CD3-671B-4489-B8F1-2E8B0726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2BF9E-4D25-4880-B275-87D8F836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DAF42-23E6-4B3C-8ECC-4188E2D4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52A8-E68C-4C77-ACFC-53FC5F5B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50BB-ED40-4BB0-B518-7A3747F6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94896-760A-4D4A-A312-46F49ED2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218F6-57E4-4333-834C-9BF62C2B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45DD-E599-439C-870F-AA4D3E26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F843C-7FA8-49F8-BFD0-12AE7345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E323D-557C-4B42-AF0F-28C3A63A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EF6-6EC9-43AD-BB0B-5C4FA2DB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FB4F7-6666-48ED-B1A2-61C148C6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14E32-67DA-45B2-97DC-E0636BC8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C7FC8-E76E-4251-9539-9C142648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B7F97-FD41-4039-9FEC-AC8EDDED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F1DA-2554-40DF-AAE2-1AB93D97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4AB10-CBF1-4398-AE49-92CFC64E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C56DC-B04D-4E3B-A661-28F7F99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FCA89-BD34-4B23-9112-E939787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E136E-8132-4E91-82A2-F3D61600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0C27-0411-4531-AC86-27CA0FE1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603-6202-4296-8307-520BB795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CFD0A-7E46-4821-9021-0F2FD960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46B53-03FF-435E-927D-E6505CA4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398C0-ED1F-42C4-97B1-EE0F70FA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A0909-038B-4257-942F-0D6AA21C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02AA1-F39F-4942-927E-7ABF591A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2E4BE-F085-4957-B757-49B9C18C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37B5A-29AB-40E1-B382-968678CE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C53FC-CD1C-4FAC-A9F7-8E5F6D0B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DF404-B0E0-4611-9031-DC4C1229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5BA3D-3832-4A00-8BB4-6C62FBE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C03-8172-4108-A66B-FFE5DE5D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7CA22-496A-4556-B286-5EA07CE0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B8A78-0680-4E8E-B89B-5ED62873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B1FD6-E5F6-4248-967D-7E74B903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A4989-612A-4055-95C9-DE916EA1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08CC-BAA2-49FE-B2C8-AE8147DA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78E03-3B84-49EE-AB9F-9E5B0E4D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B097E-5024-49ED-9265-C865B86F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70A6F-4833-4F4D-8A03-02FACD34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3DFB8-C17F-41DF-B83C-05F1E40F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C3C2F-C707-4AB2-B121-1438DEEE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579-2882-4A5F-A635-2C7E6D73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5AD79-5B34-42A6-8904-E2302FCC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380CE-442E-4511-B36F-0D1FA318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AFB29-FA15-4ACB-A93B-282F6DB8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94FF8-3B7A-4484-BB08-B1CF22A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E0381-B4D0-489D-9F3D-B6B97FFD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1C590-A6B0-4758-833D-F3DE51CE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7E827-5872-47F3-8A6B-3F860538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24B2-0143-4656-A6A0-30ABD9318E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D923-DEA9-4327-A0D5-ADDC2682640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0DAA-B2E5-4E46-B98D-261FC83E29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F7A5-CA9E-4449-9D02-37C70A75AE8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473C-B358-4D8E-972E-3FB4B298119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8336-8B2F-42C2-8228-E7D4FCD9462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F7E8-71A9-450E-9DB4-92F9DE3F2E5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5B69-EC6E-45A8-BCEF-31E46D2297F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uly 27, 200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mtiaz Gho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 on parents – feel helpless, inadequate, rej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contribute to maternal depr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crying may trigger shaken baby syndrome/other ab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s of &gt;3000 infants gave anonymous responses in a questionnaire;  2.2% of parents of 1 month olds and 3.7% of parents of 3 month olds reported having smothered, slapped, or shaken their baby at least once because of cry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ental support and education –acknowledge, reassure, offer tips on soothing, absolve guilt, recommend time-out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ole for diet changes in small percentage so may be worth a tr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methicone not shown to helpful; antispasmodics have adverse effects (apnea, seizures, coma) and contraindicated in infants &lt; 6 month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ranial osteopathy – no randomized controlled trials. One small study showed decreased crying and improved sleep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ennel seed oil –  one randomized controlled study showed benefit and no adverse effects BUT fennel oil can cause allergic reactions of skin and repieiratory tract and has been reported to cause seizu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rbal blends – teas containing fennel, chamomile, vervain, licorice, and lemon balm have been studied and shown be effective but the volume the infants took concerning ( 5 oz. TID) b/c may affect milk inta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ripe water – mixture of herbs; warn that some varieties have been found to contain dangerous ingredients, including glass particles and alcohol. Also watch for sodium bicarbonate and essential oil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locynthis – found in Hyland’s colic tablets – not proven to effective but unlikely to cause har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oothing techniques – overall 24 hour amounts of crying substantially reduced with more physical contact and increased responsivenes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hours at 1month, decreases to 14 hours by 1 year, 13 hours by age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ring first 3 months infants go from a pattern of short sleep-wake cycles about evenly distributed throughout the day and night to consolidating sleep into longer periods a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spend about 50% of sleep time in REM sleep, adults spend about 20% in REM slee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active/deep sleep cycles last about 50 minutes; adults about 90 minu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leeping through the night”–most babies by 12 weeks; actually still awakening several times during the night but most infants learn to resettle. About 1/3 of babies don’t resettle and “signal” their par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% sleeping all night by 6 months and 90% by 12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east fed babies continue to need a feeding between midnight and 6 am for longer than bottle-fed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uld not need to feed during the night after 6 months (can go about 6-8 hou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tling babies while awake- sleep onset associations. “tired cues” before overti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time routine/enviro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arest evidence is that structured care leads to infants developing the ability to remain settle at night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uctured” parenting – start training at 6 weeks. 1. maximize diff. b/tw daytime and nighttime sleep environments. 2. settle baby while awake. 3. once baby at least 3 weeks old, healthy, gaining weight well, can begin to delay feeding when baby wakes at night – cuddle,, change diaper, etc.. Not leaving baby to c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-demand care – leads to lower amounts overall fussing and crying in the first 2 months but to waking and signaling at night that continues at and beyond 3 month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a problem if parents don’t think it’s a problem. No evidence that babies who wake and cry at 3 months will have long term probl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ts of different ideas on getting babies to sleep; individualize plan based on family’s needs and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ither parenting approach better overall, each is associated with different benefits and cos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enhagen parents’ care was as effective as proximal care in minimizing crying and as effective as London care in enabling infants to remain settled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DS prev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-sleeping precau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have a normal crying curve during the first 3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aks at ~6 weeks and decreases by abou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erages 2 hr/day at 2 weeks, 3 hrs at 6 weeks, and 1 hr/day a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ue across cultures and preemies show the same pattern, peaking at 6 weeks after their expected due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838080" y="205740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ental support and education are ke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tachment behavior – assures nutrition, protection, maternal inter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p to a point, infants who cry more get more maternal atten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organization of brain systems occurring around 8-12 weeks, reflexive systems replaced by cortical control of behavi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soothability related to a temporary deficit in responsivity, so have difficulty in stopping crying once it sta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widely used definition is: &gt; 3 hours a day, &gt; 3 days a week, &gt;3 weeks in a row (i.e.. rule of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ing an otherwise healthy, well-fed inf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s range from 2 – 20% of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gnosis of ex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theories, often thought to be due to g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sed on current evidence infants who have colic are at the high end of a normal spectrum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ign, self limited. 50% resolve by 2 months, 80% by 3 months, 90% by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dden, unpredictable on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episodic bou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urnal – evening pea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 to cons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physical signs –clenched fists, red face, legs drawn up, distended abd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sts beyond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inuous irritability/lack of diurnal rhyth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 symptoms (FTT, vomiting, diarrhea, et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physical exam –  including eyes, long bones, neuro, CV, GI assess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family history of asthma, atopy, eczema, migra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ernal drug inges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lthough food intolerance and other organic causes can cause prolonged crying, these factors absent in 90% of cas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ost common organic causes suspected are GERD and food allergies, but the evidence is equivocal and a factor in only a small grou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rge study comparing BFing mothers on low allergen diet vs. those not, showed no difference in proportions of colicy infan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ctose intolerance – no good supportive evid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tudies have shown parental counseling more effective than diet chang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oss-cultural studies comparing parenting and infant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 amounts of body contact and responsive parenting associated with lower amounts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rying curve and frequency of crying is similar but the length of the bouts are reduced substanti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1:41:10Z</dcterms:created>
  <dc:creator>Raj Dasari</dc:creator>
  <dc:description/>
  <dc:language>en-US</dc:language>
  <cp:lastModifiedBy>HCMARTINEZ</cp:lastModifiedBy>
  <dcterms:modified xsi:type="dcterms:W3CDTF">2009-07-27T19:06:06Z</dcterms:modified>
  <cp:revision>63</cp:revision>
  <dc:subject/>
  <dc:title>Colic and Infant sleep problems</dc:title>
</cp:coreProperties>
</file>